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53A-8B57-4379-9F5E-9A1E9FC9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5A7-95FD-4456-9D4A-DE15957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D29-D964-44A3-BDA1-55BD6ED6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077-109B-46AD-B4B9-46951D1D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4EA6-4CB7-449C-83A7-2514C08A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6E25-8D97-4D70-A67B-DB32BE0E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4FD3-35D2-4867-B3F3-50D1ED2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34CE-6A13-4689-9616-DF83F3DD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F5E-DAA5-4709-B42C-1360825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38E-E28A-491F-B252-50D77E3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251-CE51-4627-AC87-30F64D34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159-DB9F-4436-9840-56E99DD1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B2E1-DE20-4D0A-8B6C-55C5DD5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096-9065-477E-BF7D-662702F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7F48-8630-4F85-B45C-E6918D0D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3766-327D-47F2-BFAF-10F3129F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FD9-DDFE-41CC-A7E2-AA9B03C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BBE-DEF3-491C-8EED-7C355CAA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295-34C3-4F3A-8641-5145223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354-B0E0-49AC-8132-7FAFB77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816-8D4B-4CBF-A665-ED884B9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AA5-B627-4BAF-A0A3-1A97473D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E33-668C-403B-8574-A91160C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149-67AE-4408-90F1-6DD5477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59E-0D30-4633-A20C-5485391D10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4B23-8627-4875-B7FF-B9B8086DFF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acrifice Quiz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: Emma Gorman, Brooke Trujjilo, Zimarya Rucker, Taylor Kim, and May Pha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8, 9, and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girls expected to do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boys expected to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s the economy bad at the time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rls were expected to tend the house and cook, clean, and sew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ys were expected to hunt and practice such skills as carpentry or craf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s it was, because most people had to make their own supplies and support their own family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What would people do to a person was accused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Get arrested, examined, and interrogated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2 an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as the only way you could avoid executed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many people were put to death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ing pregnant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 peo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4 and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as one rule that you couldn’t do in chur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divisions that existed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n’t talk in church, sit on separate sides of the church etc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lem Town and Salem Vill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s 6 and 7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 was the Reverend that controlled Salem during 169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s power was Salem under during the witch trail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erend Samuel Pa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was under British Rule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1:48:01Z</dcterms:created>
  <dc:creator>wks1</dc:creator>
  <dc:description/>
  <dc:language>en-US</dc:language>
  <cp:lastModifiedBy>wks1</cp:lastModifiedBy>
  <dcterms:modified xsi:type="dcterms:W3CDTF">2008-10-17T11:57:43Z</dcterms:modified>
  <cp:revision>2</cp:revision>
  <dc:subject/>
  <dc:title>Sacrifice Quiz!</dc:title>
</cp:coreProperties>
</file>